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FE14C-EF67-4499-A48A-E5EB98B4FB8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B8E90-3FCD-4B6A-A058-A72FB353FD2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73CAA-8D73-48C4-B030-4CFA762712E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7A170-5FAF-4845-A6BF-B4DBA689B37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6B216-E2F5-4E52-9C0E-86D78E00EE1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BD75F-DCCE-4F25-9E6D-D060C8820C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45FDD-6D39-477F-BC34-0A903595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34024-AC8F-4F01-8B13-C0C37B97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6F830-A94F-408D-BFAA-05863F7D14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0E32B-FEF2-4473-87E7-7FC6C085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C52A4-7041-4C7C-81F7-D7E8D548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ACC1F-A00B-43C5-830F-3D34561C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F9DEC-06BB-4D9D-9F9E-8B5A6E31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10134-2889-4B3C-BAD9-385014ED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6C129-8526-47DF-9BD5-24B389A9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27084-BB46-4ADA-800E-281AF9C8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84734-831C-4EF7-9EA9-83D9FAE7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07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11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7A520F-AAD6-46D5-A084-46A59BACA9E4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GER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716040" y="584280"/>
            <a:ext cx="2340000" cy="32400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ger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3"/>
          <a:stretch/>
        </p:blipFill>
        <p:spPr>
          <a:xfrm>
            <a:off x="3419640" y="907920"/>
            <a:ext cx="2298600" cy="286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4"/>
          <a:stretch/>
        </p:blipFill>
        <p:spPr>
          <a:xfrm>
            <a:off x="6156360" y="907920"/>
            <a:ext cx="2298600" cy="2862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971640" y="836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germin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042920" y="3716280"/>
            <a:ext cx="21589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semilla enterrada en condiciones adecuadas, empieza a absorber agua y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embrión comienza su  desarrollo,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 expensas de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reservas de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cotiledon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3780000" y="3716280"/>
            <a:ext cx="2158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envolturas de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la semilla se rompen y salen una raíz, que crece hacia abajo y un tallo, que lo hace hacia la superfici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6516720" y="3716280"/>
            <a:ext cx="2340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ando el tallo aflora a la superficie, forma hojas que comienzan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 hacer la fotosíntesis. Así se nutre a partir de ahora la nueva planta, que proseguirá su crecimiento y su desarroll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2982960" y="2565360"/>
            <a:ext cx="539640" cy="539640"/>
          </a:xfrm>
          <a:custGeom>
            <a:avLst/>
            <a:gdLst>
              <a:gd name="textAreaLeft" fmla="*/ 0 w 539640"/>
              <a:gd name="textAreaRight" fmla="*/ 540000 w 53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14"/>
          <p:cNvSpPr/>
          <p:nvPr/>
        </p:nvSpPr>
        <p:spPr>
          <a:xfrm>
            <a:off x="5719680" y="2565360"/>
            <a:ext cx="540000" cy="539640"/>
          </a:xfrm>
          <a:custGeom>
            <a:avLst/>
            <a:gdLst>
              <a:gd name="textAreaLeft" fmla="*/ 0 w 540000"/>
              <a:gd name="textAreaRight" fmla="*/ 540360 w 54000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15 CuadroTexto"/>
          <p:cNvSpPr/>
          <p:nvPr/>
        </p:nvSpPr>
        <p:spPr>
          <a:xfrm>
            <a:off x="539640" y="3645000"/>
            <a:ext cx="287280" cy="36828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18 CuadroTexto"/>
          <p:cNvSpPr/>
          <p:nvPr/>
        </p:nvSpPr>
        <p:spPr>
          <a:xfrm>
            <a:off x="3203640" y="3645000"/>
            <a:ext cx="288720" cy="36828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19 CuadroTexto"/>
          <p:cNvSpPr/>
          <p:nvPr/>
        </p:nvSpPr>
        <p:spPr>
          <a:xfrm>
            <a:off x="6084720" y="3645000"/>
            <a:ext cx="287640" cy="36828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15:38Z</dcterms:modified>
  <cp:revision>45</cp:revision>
  <dc:subject/>
  <dc:title>Diapositiva 1</dc:title>
</cp:coreProperties>
</file>